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4C8-E7B8-426C-947E-0F4F91FC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18B-16DC-4D47-8FD7-F49C8A3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4CD-807A-4170-947E-4E38A93D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1DC-FE68-4CF7-96DB-231D2ACF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006-7CAF-47F9-9091-1669CC83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CC5-89E0-4F6D-AD46-18775B5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7F0-86A3-46FA-87C7-07BEE017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8DD-3F2B-479A-B914-FAF700A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7A6-3874-4F0A-90F1-EF4451A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E5F-D5EC-4CA8-B3F0-310FDF9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671-8C9F-419C-A8FC-7E8425F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BF2-5DCE-4617-9201-611B9B5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43B0-5C99-4082-AC6E-450A50DF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x.co.jp/" TargetMode="External"/><Relationship Id="rId2" Type="http://schemas.openxmlformats.org/officeDocument/2006/relationships/hyperlink" Target="https://kishiwada.tokushukai.or.jp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118440"/>
            <a:ext cx="6477120" cy="90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AsReader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（アスタリスク社）の特徴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iPod touch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などの汎用的なモバイル端末に装着するカバーケース型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バーコードリーダーと、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リーダー。</a:t>
            </a:r>
            <a:br>
              <a:rPr sz="1100"/>
            </a:b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 スマートフォンなどの端末は、既存の業務用ハンディ端末に比べ機能的に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優れてきており、業務改革意識の高い企業が積極的に使い始めてい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業務改革につかうこと、コスト面も下げられることと共に、海外展開される企業で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ニーズにもマッチさせている。</a:t>
            </a:r>
            <a:br>
              <a:rPr sz="1100"/>
            </a:br>
            <a:br>
              <a:rPr sz="1100"/>
            </a:b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   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sReader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ホームページ（製品サイト）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asreader.j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アスタリスクホームページ（企業サイト）　</a:t>
            </a:r>
            <a:r>
              <a:rPr b="0" lang="ja-JP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sx.co.j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医療法人徳洲会　岸和田徳洲会病院 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医療法人徳洲会　岸和田徳洲会病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理事長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鈴木 隆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院長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東上　震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所在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大阪府岸和田市加守町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4-27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開設年度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昭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開設、平成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新築移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病床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病床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34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床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許可病床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34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床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診療科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内科・心療内科・神経内科・呼吸器内科・消化器内科・循環器内科・</a:t>
            </a:r>
            <a:br>
              <a:rPr sz="1100"/>
            </a:b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腎臓内科・小児科・外科・消化器外科・整形外科・形成外科・脳神経外科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心臓血管外科・救急科・眼科・皮膚科・泌尿器科・産婦人科・放射線科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耳鼻咽喉科・リハビリテーション科・歯科・歯科口腔外科・麻酔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kishiwada.tokushukai.or.j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医療法人社団 誠馨会 セコメディック病院　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医療法人社団 誠馨会 セコメディック病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院長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星　誠一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診療科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内科、外科、循環器内科、呼吸器内科、消化器内科、小児科、糖尿病・代謝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内分泌内科、脳神経外科、神経内科、整形外科、リウマチ科、心臓血管外科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泌尿器科、歯科口腔外科、眼科、耳鼻咽喉科、皮膚科、放射線科、麻酔科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精神科、心療内科、リハビリテーション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病床規模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許可病床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9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床（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ICU7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床、回復期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床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看護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（一般病棟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職員数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3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secomedic.gr.j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株式会社アスタリスク　会社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会社名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株式会社アスタリス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代表者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代表取締役社長 鈴木 規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資本金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百万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設　立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本　社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32-0011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大阪府大阪市淀川区西中島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-6-16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新大阪大日ビル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050-5536-11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東京事業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105-0004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東京都港区新橋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3-8-6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大新ビル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50-5830-53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http://www.asx.co.jp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事業内容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iPhone/iPod touch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に装着するケース型のリーダー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sReader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製造、販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モバイルを中心としたシステムインテグレ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13:53:48Z</dcterms:created>
  <dc:creator>tohhashi</dc:creator>
  <dc:description/>
  <dc:language>en-US</dc:language>
  <cp:lastModifiedBy>tohhashi</cp:lastModifiedBy>
  <dcterms:modified xsi:type="dcterms:W3CDTF">2015-07-14T00:48:37Z</dcterms:modified>
  <cp:revision>8</cp:revision>
  <dc:subject/>
  <dc:title>スライド 1</dc:title>
</cp:coreProperties>
</file>