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87280" y="739440"/>
            <a:ext cx="256212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FABD3D61-C974-490A-B9F0-74BA42C76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EF92161-7102-46F0-8AC5-46A4B55D522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2120" cy="37004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0F1C7960-7C1E-49C3-8249-00FA90F38FD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087640" y="739800"/>
            <a:ext cx="2562120" cy="3700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271C-2820-45B3-B787-4DB2E0A1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64C-53AF-4AEF-A3DB-61021781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C2E-6C3F-4F9E-990B-90152B44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6E6C-2463-44A6-9A7C-092F56BD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7C86-A0F6-47ED-8E1F-F95BA577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084-74D9-4E79-8BCF-38534A57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918-4978-4BD3-B48B-21647485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E4E-D8C3-4741-AA42-D9276013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BBE6-4353-47B0-8BCD-B12ADEE5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8F8-9548-47EF-902C-99C03858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4C97-6F6A-46F1-BB68-92EA1A26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2681-02C4-4291-A046-0D61CA86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F7E7-FBD2-4DD0-A786-7C8F14C2E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com-net.co.jp/" TargetMode="External"/><Relationship Id="rId2" Type="http://schemas.openxmlformats.org/officeDocument/2006/relationships/hyperlink" Target="mailto:sugiyama@gcom-net.co.jp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"/>
          <p:cNvPicPr/>
          <p:nvPr/>
        </p:nvPicPr>
        <p:blipFill>
          <a:blip r:embed="rId1"/>
          <a:stretch/>
        </p:blipFill>
        <p:spPr>
          <a:xfrm>
            <a:off x="1182600" y="6224760"/>
            <a:ext cx="5081760" cy="3624120"/>
          </a:xfrm>
          <a:prstGeom prst="rect">
            <a:avLst/>
          </a:prstGeom>
          <a:ln w="0">
            <a:noFill/>
          </a:ln>
        </p:spPr>
      </p:pic>
      <p:sp>
        <p:nvSpPr>
          <p:cNvPr id="49" name="Line 51"/>
          <p:cNvSpPr/>
          <p:nvPr/>
        </p:nvSpPr>
        <p:spPr>
          <a:xfrm>
            <a:off x="14400" y="403200"/>
            <a:ext cx="6829200" cy="0"/>
          </a:xfrm>
          <a:prstGeom prst="line">
            <a:avLst/>
          </a:prstGeom>
          <a:ln w="38160">
            <a:solidFill>
              <a:srgbClr val="006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7"/>
          <p:cNvSpPr/>
          <p:nvPr/>
        </p:nvSpPr>
        <p:spPr>
          <a:xfrm>
            <a:off x="4723560" y="924480"/>
            <a:ext cx="17046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2015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株式会社ジーコム　生活行動研究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g-com3"/>
          <p:cNvPicPr/>
          <p:nvPr/>
        </p:nvPicPr>
        <p:blipFill>
          <a:blip r:embed="rId2"/>
          <a:stretch/>
        </p:blipFill>
        <p:spPr>
          <a:xfrm>
            <a:off x="58680" y="9360"/>
            <a:ext cx="1293840" cy="360360"/>
          </a:xfrm>
          <a:prstGeom prst="rect">
            <a:avLst/>
          </a:prstGeom>
          <a:ln w="0">
            <a:noFill/>
          </a:ln>
        </p:spPr>
      </p:pic>
      <p:sp>
        <p:nvSpPr>
          <p:cNvPr id="52" name="正方形/長方形 1"/>
          <p:cNvSpPr/>
          <p:nvPr/>
        </p:nvSpPr>
        <p:spPr>
          <a:xfrm>
            <a:off x="1747800" y="5970600"/>
            <a:ext cx="337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9966"/>
                </a:solidFill>
                <a:latin typeface="ＭＳ Ｐゴシック"/>
              </a:rPr>
              <a:t>■</a:t>
            </a:r>
            <a:r>
              <a:rPr b="0" lang="ja-JP" sz="1200" spc="-1" strike="noStrike">
                <a:solidFill>
                  <a:srgbClr val="339966"/>
                </a:solidFill>
                <a:latin typeface="ＭＳ Ｐゴシック"/>
              </a:rPr>
              <a:t>インターネットでよく見る情報（複数回答＊インターネット接続層限定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64"/>
          <p:cNvSpPr/>
          <p:nvPr/>
        </p:nvSpPr>
        <p:spPr>
          <a:xfrm>
            <a:off x="15840" y="1584360"/>
            <a:ext cx="682308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～ ジーコムが福岡県居住者の「メディア接触」に関する調査結果を公開 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インターネットで最もよく見る情報は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619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「経済・ニュース」でおよそ７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7"/>
          <p:cNvSpPr/>
          <p:nvPr/>
        </p:nvSpPr>
        <p:spPr>
          <a:xfrm>
            <a:off x="277560" y="619560"/>
            <a:ext cx="82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報道関係者各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プレスリリー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正方形/長方形 1"/>
          <p:cNvSpPr/>
          <p:nvPr/>
        </p:nvSpPr>
        <p:spPr>
          <a:xfrm>
            <a:off x="4466520" y="-25560"/>
            <a:ext cx="242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2e"/>
                </a:solidFill>
                <a:latin typeface="Arial"/>
              </a:rPr>
              <a:t>Press Rel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122400" y="3110040"/>
            <a:ext cx="660852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年近くにわたり福岡・九州の市場動向を研究している株式会社ジーコム（本社：福岡県福岡市　代表取締役：村上隆英）は、このたび、福岡県居住者の「メディア接触」に対する意識や行動を調査しましたので、その結果をお知らせいた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本調査では、弊社が組織する調査モニター「コムネット」を対象に、インターネットでよく見る情報や利用するサービス、ＳＮＳの利用状況等についてアンケートを行いました。その結果、インターネットでよく見る情報は、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18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項目のうち「経済・ニュース」の割合が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67.1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％で最も高く、次いで「趣味関連」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52.4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％、「旅行・レジャー」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51.9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％、「食品・料理・グルメ」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51.3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％、「エンターテインメント」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3.6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％の順でした。年代別に見ると、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代以上では「経済・ニュース」の割合が最も高いのに対し、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代は「趣味関連」が最も高くなっています。また、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代以上は「旅行・レジャー」、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代は「エンターテインメント」の割合が他に比べて高くなっており、年代によって関心事が異なっている様子がうかがえ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14"/>
          <p:cNvSpPr/>
          <p:nvPr/>
        </p:nvSpPr>
        <p:spPr>
          <a:xfrm>
            <a:off x="3305160" y="9445680"/>
            <a:ext cx="419040" cy="179280"/>
          </a:xfrm>
          <a:prstGeom prst="rect">
            <a:avLst/>
          </a:prstGeom>
          <a:noFill/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14"/>
          <p:cNvSpPr/>
          <p:nvPr/>
        </p:nvSpPr>
        <p:spPr>
          <a:xfrm>
            <a:off x="4140360" y="8913960"/>
            <a:ext cx="419040" cy="357120"/>
          </a:xfrm>
          <a:prstGeom prst="rect">
            <a:avLst/>
          </a:prstGeom>
          <a:noFill/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8"/>
          <p:cNvSpPr/>
          <p:nvPr/>
        </p:nvSpPr>
        <p:spPr>
          <a:xfrm>
            <a:off x="162000" y="6028920"/>
            <a:ext cx="653076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会社概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会社名　　株式会社ジーコム 生活行動研究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代表者　　代表取締役 村上隆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設立　　　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989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所在地　　〒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12-0029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福岡県福岡市博多区古門戸町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-4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KS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モンドビル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事業　　　マーケティングリサーチ及びマーケティング領域におけるコンサルテ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ＵＲＬ　　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ＭＳ ゴシック"/>
                <a:ea typeface="ＭＳ ゴシック"/>
                <a:hlinkClick r:id="rId1"/>
              </a:rPr>
              <a:t>http://www.gcom-net.co.j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8"/>
          <p:cNvSpPr/>
          <p:nvPr/>
        </p:nvSpPr>
        <p:spPr>
          <a:xfrm>
            <a:off x="162000" y="7741800"/>
            <a:ext cx="653076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件に関する問い合わせ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株式会社ジーコム（担当：杉山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EL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92-283-2085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FAX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92-262-6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-mail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ＭＳ ゴシック"/>
                <a:ea typeface="ＭＳ ゴシック"/>
                <a:hlinkClick r:id="rId2"/>
              </a:rPr>
              <a:t>sugiyama@gcom-net.co.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調査データの転載・引用等をご希望の方はお問い合わせ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8"/>
          <p:cNvSpPr/>
          <p:nvPr/>
        </p:nvSpPr>
        <p:spPr>
          <a:xfrm>
            <a:off x="162000" y="4639320"/>
            <a:ext cx="6530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本調査の概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調査方法　　インターネット調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調査対象　　福岡県在住の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歳以上の男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調査規模　　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ンプ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調査時期　　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15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（金）～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5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（水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-9360" y="9634680"/>
            <a:ext cx="6864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662e"/>
                </a:solidFill>
                <a:latin typeface="HGS創英角ｺﾞｼｯｸUB"/>
                <a:ea typeface="HGS創英角ｺﾞｼｯｸUB"/>
              </a:rPr>
              <a:t>九州の消費者を見つめて</a:t>
            </a:r>
            <a:r>
              <a:rPr b="0" lang="en-US" sz="1300" spc="-1" strike="noStrike">
                <a:solidFill>
                  <a:srgbClr val="00662e"/>
                </a:solidFill>
                <a:latin typeface="HGS創英角ｺﾞｼｯｸUB"/>
                <a:ea typeface="HGS創英角ｺﾞｼｯｸUB"/>
              </a:rPr>
              <a:t>27</a:t>
            </a:r>
            <a:r>
              <a:rPr b="0" lang="ja-JP" sz="1300" spc="-1" strike="noStrike">
                <a:solidFill>
                  <a:srgbClr val="00662e"/>
                </a:solidFill>
                <a:latin typeface="HGS創英角ｺﾞｼｯｸUB"/>
                <a:ea typeface="HGS創英角ｺﾞｼｯｸUB"/>
              </a:rPr>
              <a:t>年。ジーコムはマーケティングリサーチの専門会社です。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51"/>
          <p:cNvSpPr/>
          <p:nvPr/>
        </p:nvSpPr>
        <p:spPr>
          <a:xfrm>
            <a:off x="12600" y="9596520"/>
            <a:ext cx="6829560" cy="0"/>
          </a:xfrm>
          <a:prstGeom prst="line">
            <a:avLst/>
          </a:prstGeom>
          <a:ln w="38160">
            <a:solidFill>
              <a:srgbClr val="0066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正方形/長方形 1"/>
          <p:cNvSpPr/>
          <p:nvPr/>
        </p:nvSpPr>
        <p:spPr>
          <a:xfrm>
            <a:off x="212760" y="4983120"/>
            <a:ext cx="6429240" cy="927000"/>
          </a:xfrm>
          <a:prstGeom prst="rect">
            <a:avLst/>
          </a:prstGeom>
          <a:noFill/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正方形/長方形 7"/>
          <p:cNvSpPr/>
          <p:nvPr/>
        </p:nvSpPr>
        <p:spPr>
          <a:xfrm>
            <a:off x="212760" y="6351480"/>
            <a:ext cx="6429240" cy="1346400"/>
          </a:xfrm>
          <a:prstGeom prst="rect">
            <a:avLst/>
          </a:prstGeom>
          <a:noFill/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212760" y="8064360"/>
            <a:ext cx="6429240" cy="1346400"/>
          </a:xfrm>
          <a:prstGeom prst="rect">
            <a:avLst/>
          </a:prstGeom>
          <a:noFill/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"/>
          <p:cNvSpPr/>
          <p:nvPr/>
        </p:nvSpPr>
        <p:spPr>
          <a:xfrm>
            <a:off x="703440" y="44280"/>
            <a:ext cx="24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39966"/>
                </a:solidFill>
                <a:latin typeface="ＭＳ Ｐゴシック"/>
              </a:rPr>
              <a:t>■</a:t>
            </a:r>
            <a:r>
              <a:rPr b="0" lang="ja-JP" sz="1200" spc="-1" strike="noStrike">
                <a:solidFill>
                  <a:srgbClr val="339966"/>
                </a:solidFill>
                <a:latin typeface="ＭＳ Ｐゴシック"/>
              </a:rPr>
              <a:t>ＳＮＳ利用状況（上位抜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2"/>
          <p:cNvSpPr/>
          <p:nvPr/>
        </p:nvSpPr>
        <p:spPr>
          <a:xfrm>
            <a:off x="3513240" y="436680"/>
            <a:ext cx="3260520" cy="7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また、ＳＮＳの利用状況について「毎日、何度も使っている」「一日に１度は使っている」「たまに使っている」を合計した利用率は「ＬＩＮＥ」で４割を超えていて、最も利用率の高い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代では７割以上に及びます。２年前に実施した調査と比べると「ＬＩＮＥ」の利用率は大きく増加し、中でも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代の増加幅が大きくなっていまし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調査報告書は全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11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ページ。プレスリリースシートに掲載されていない項目もございます。是非ご覧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04"/>
          <p:cNvSpPr/>
          <p:nvPr/>
        </p:nvSpPr>
        <p:spPr>
          <a:xfrm>
            <a:off x="65160" y="4083120"/>
            <a:ext cx="688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調査結果の詳細については、報告書をご覧くだ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" descr=""/>
          <p:cNvPicPr/>
          <p:nvPr/>
        </p:nvPicPr>
        <p:blipFill>
          <a:blip r:embed="rId3"/>
          <a:stretch/>
        </p:blipFill>
        <p:spPr>
          <a:xfrm>
            <a:off x="314280" y="422280"/>
            <a:ext cx="3016440" cy="3490920"/>
          </a:xfrm>
          <a:prstGeom prst="rect">
            <a:avLst/>
          </a:prstGeom>
          <a:ln w="0">
            <a:noFill/>
          </a:ln>
        </p:spPr>
      </p:pic>
      <p:cxnSp>
        <p:nvCxnSpPr>
          <p:cNvPr id="71" name="直線矢印コネクタ 4"/>
          <p:cNvCxnSpPr/>
          <p:nvPr/>
        </p:nvCxnSpPr>
        <p:spPr>
          <a:xfrm flipV="1">
            <a:off x="1785600" y="3145680"/>
            <a:ext cx="1080" cy="1832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01:45:12Z</dcterms:created>
  <dc:creator>g-com</dc:creator>
  <dc:description/>
  <dc:language>en-US</dc:language>
  <cp:lastModifiedBy>morisue</cp:lastModifiedBy>
  <cp:lastPrinted>2015-06-01T02:40:51Z</cp:lastPrinted>
  <dcterms:modified xsi:type="dcterms:W3CDTF">2015-06-01T02:49:41Z</dcterms:modified>
  <cp:revision>362</cp:revision>
  <dc:subject/>
  <dc:title>スライド 1</dc:title>
</cp:coreProperties>
</file>