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29163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AD99-B6A7-4992-846E-11B234BE4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66480"/>
            <a:ext cx="6172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369040"/>
            <a:ext cx="6172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7492-04C6-4E6A-9B18-5D883CCE9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6648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6648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36904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36904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CFF5-1497-45E0-9AA7-5893CAC64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66480"/>
            <a:ext cx="1987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66480"/>
            <a:ext cx="1987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66480"/>
            <a:ext cx="1987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369040"/>
            <a:ext cx="1987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369040"/>
            <a:ext cx="1987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369040"/>
            <a:ext cx="1987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902F-AB31-4D4A-942D-611D8740B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66480"/>
            <a:ext cx="6172200" cy="61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2B23-1D89-496E-A716-C5850F6A5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66480"/>
            <a:ext cx="617220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B73D-9F82-4644-A033-7E5E7565C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66480"/>
            <a:ext cx="301176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66480"/>
            <a:ext cx="301176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4C2-C713-4FDC-8A70-C771D7ED8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30BA-477C-487B-B4B1-51F466121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72960"/>
            <a:ext cx="6172200" cy="717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DF48-7E8D-45A0-ABED-5E55C0089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6648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66480"/>
            <a:ext cx="301176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36904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668C-AFCC-4BCA-B963-F35F1EBA4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66480"/>
            <a:ext cx="301176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6648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36904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D071-FA64-441F-AE53-7CE083A92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6648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66480"/>
            <a:ext cx="301176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369040"/>
            <a:ext cx="6172200" cy="29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599D-E8CD-4518-B04B-9C189CFF5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72960"/>
            <a:ext cx="6172200" cy="15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66480"/>
            <a:ext cx="6172200" cy="613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59280"/>
            <a:ext cx="16002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59280"/>
            <a:ext cx="217152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59280"/>
            <a:ext cx="1600200" cy="6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4734-B0E5-449B-A25C-AF09F301CC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3618000" y="0"/>
            <a:ext cx="3124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　　　　　　　　　　　　　　　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株式会社Ｒバン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　　　　　　　　　　　　　　　　２０１４年</a:t>
            </a:r>
            <a:r>
              <a:rPr b="0" lang="en-US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12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19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212760" y="3543480"/>
            <a:ext cx="6505560" cy="607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株式会社Ｒバンク（本社：東京都渋谷区渋谷</a:t>
            </a:r>
            <a:r>
              <a:rPr b="0" lang="en-US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3-8-12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／代表：藤田将友）は、シェアハウス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含めた賃貸住宅の提案を創業以来、多数のプロジェクトにて行ってお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企画のみではなく、募集管理まで責任をもって行うことでオーナーの信頼を得る努力をしてきましたが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お陰様で、シェアハウス、一般賃貸住宅を併せて首都圏に約１０００部屋の住宅や事務所を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させて頂いてお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昨今では、弊社の企画力のみならず、女性スタッフのみで構成された管理チームのきめ細か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サービスや充実したサポートサービスから不動産管理のみを依頼されるケースも多くなってお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弊社では、「人とひとと建ものの」よりよい関係を築くというコンセプトのもと、少しでも多くの不動産を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オーナーよりお預かりし、多くの方に快適に過ごせる空間を提供していきたいと考えており、か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3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年の間に管理数を倍増させて、更なる管理体制の強化を図っていきたいと思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■</a:t>
            </a:r>
            <a:r>
              <a:rPr b="0" lang="en-US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R-with</a:t>
            </a: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につい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「人とひとと建ものの、橋渡し」をコンセプトに弊社で行っている賃貸企画や、賃貸管理のサービス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事例について、紹介させて頂いてお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「人とひとと建ものの、橋渡し」として行っている管理物件でのイベント企画や、最新の賃貸企画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ケーススタディー等、一般の不動産管理サイトにはない、コンテンツも充実しておりますので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不動産オーナー以外の方が見ても、楽しめる内容のサイトになってお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なかなか、有効に活かせない不動産をお持ちのオーナーや、募集が上手く進まず困っているオーナ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や老朽化した建物、くせのある土地を活用したいというオーナー等、あらゆるオーナーの「困りごと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に対応できる内容のサイトになっており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189000" y="8431200"/>
            <a:ext cx="6553080" cy="749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ニュースリリース内容・取材申込に関するお問合せ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株式会社Ｒバンク　担当：鈴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東京都渋谷区渋谷３－８－１</a:t>
            </a:r>
            <a:r>
              <a:rPr b="0" lang="en-US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2 </a:t>
            </a: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渋谷第一生命ビル３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ＴＥＬ：</a:t>
            </a:r>
            <a:r>
              <a:rPr b="0" lang="en-US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03-5464-2520</a:t>
            </a: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ＦＡＸ</a:t>
            </a:r>
            <a:r>
              <a:rPr b="0" lang="en-US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03-5464-2521</a:t>
            </a: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mail:g-suzuki@r-bank.co.jp  </a:t>
            </a: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（水・木定休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6"/>
          <p:cNvSpPr/>
          <p:nvPr/>
        </p:nvSpPr>
        <p:spPr>
          <a:xfrm>
            <a:off x="177840" y="34920"/>
            <a:ext cx="143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Arial"/>
              </a:rPr>
              <a:t>ＰＲＥＳＳ　ＲＥＬＥＡＳ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7"/>
          <p:cNvSpPr/>
          <p:nvPr/>
        </p:nvSpPr>
        <p:spPr>
          <a:xfrm>
            <a:off x="4149720" y="625140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56"/>
          <p:cNvSpPr/>
          <p:nvPr/>
        </p:nvSpPr>
        <p:spPr>
          <a:xfrm>
            <a:off x="182520" y="453960"/>
            <a:ext cx="667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株式会社Ｒバンクは、「人とひとと建ものの、橋渡し」をコンセプト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不動産オーナー向けの不動産管理運営サイト「</a:t>
            </a:r>
            <a:r>
              <a:rPr b="0" lang="en-US" sz="18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R-with</a:t>
            </a:r>
            <a:r>
              <a:rPr b="0" lang="ja-JP" sz="18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」を公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致しましたので、ここにご報告させて頂きま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図 1" descr=""/>
          <p:cNvPicPr/>
          <p:nvPr/>
        </p:nvPicPr>
        <p:blipFill>
          <a:blip r:embed="rId1"/>
          <a:srcRect l="0" t="0" r="0" b="26641"/>
          <a:stretch/>
        </p:blipFill>
        <p:spPr>
          <a:xfrm>
            <a:off x="404640" y="1432080"/>
            <a:ext cx="5759640" cy="190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6"/>
          <p:cNvSpPr/>
          <p:nvPr/>
        </p:nvSpPr>
        <p:spPr>
          <a:xfrm>
            <a:off x="73080" y="39600"/>
            <a:ext cx="6505560" cy="58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＜添付資料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１、ＷＥＢサイトの紹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　</a:t>
            </a:r>
            <a:r>
              <a:rPr b="1" lang="en-US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http://r-with-house.com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２、プロジェクト紹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Ｒバンクが手掛けた再生事業、新築物件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シェアハウス等のご紹介を掲載しています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　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3080" y="8317080"/>
            <a:ext cx="3976560" cy="86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ニュースリリース内容・取材申込に関するお問合せ先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株式会社Ｒバンク　担当：鈴木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東京都渋谷区渋谷３－８－１</a:t>
            </a:r>
            <a:r>
              <a:rPr b="0" lang="en-US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2 </a:t>
            </a: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渋谷第一生命ビル３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ＴＥＬ：</a:t>
            </a:r>
            <a:r>
              <a:rPr b="0" lang="en-US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03-5464-2520</a:t>
            </a: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ＦＡＸ</a:t>
            </a:r>
            <a:r>
              <a:rPr b="0" lang="en-US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03-5464-2521</a:t>
            </a: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mail:g-suzuki@r-bank.co.jp  </a:t>
            </a:r>
            <a:r>
              <a:rPr b="0" lang="ja-JP" sz="10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（水・木定休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4"/>
          <p:cNvSpPr/>
          <p:nvPr/>
        </p:nvSpPr>
        <p:spPr>
          <a:xfrm>
            <a:off x="4149720" y="8029440"/>
            <a:ext cx="23036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7"/>
          <p:cNvSpPr/>
          <p:nvPr/>
        </p:nvSpPr>
        <p:spPr>
          <a:xfrm>
            <a:off x="4149720" y="625140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図 2" descr=""/>
          <p:cNvPicPr/>
          <p:nvPr/>
        </p:nvPicPr>
        <p:blipFill>
          <a:blip r:embed="rId1"/>
          <a:srcRect l="0" t="0" r="0" b="2211"/>
          <a:stretch/>
        </p:blipFill>
        <p:spPr>
          <a:xfrm>
            <a:off x="3465360" y="85680"/>
            <a:ext cx="3229200" cy="2664000"/>
          </a:xfrm>
          <a:prstGeom prst="rect">
            <a:avLst/>
          </a:prstGeom>
          <a:ln w="0">
            <a:noFill/>
          </a:ln>
        </p:spPr>
      </p:pic>
      <p:pic>
        <p:nvPicPr>
          <p:cNvPr id="53" name="図 4" descr=""/>
          <p:cNvPicPr/>
          <p:nvPr/>
        </p:nvPicPr>
        <p:blipFill>
          <a:blip r:embed="rId2"/>
          <a:srcRect l="904" t="0" r="4140" b="0"/>
          <a:stretch/>
        </p:blipFill>
        <p:spPr>
          <a:xfrm>
            <a:off x="0" y="6388200"/>
            <a:ext cx="4076640" cy="1827000"/>
          </a:xfrm>
          <a:prstGeom prst="rect">
            <a:avLst/>
          </a:prstGeom>
          <a:ln w="0">
            <a:noFill/>
          </a:ln>
        </p:spPr>
      </p:pic>
      <p:pic>
        <p:nvPicPr>
          <p:cNvPr id="54" name="図 5" descr=""/>
          <p:cNvPicPr/>
          <p:nvPr/>
        </p:nvPicPr>
        <p:blipFill>
          <a:blip r:embed="rId3"/>
          <a:srcRect l="0" t="0" r="34960" b="0"/>
          <a:stretch/>
        </p:blipFill>
        <p:spPr>
          <a:xfrm>
            <a:off x="4129200" y="6434280"/>
            <a:ext cx="2684520" cy="2658960"/>
          </a:xfrm>
          <a:prstGeom prst="rect">
            <a:avLst/>
          </a:prstGeom>
          <a:ln w="0">
            <a:noFill/>
          </a:ln>
        </p:spPr>
      </p:pic>
      <p:pic>
        <p:nvPicPr>
          <p:cNvPr id="55" name="図 6" descr=""/>
          <p:cNvPicPr/>
          <p:nvPr/>
        </p:nvPicPr>
        <p:blipFill>
          <a:blip r:embed="rId4"/>
          <a:srcRect l="0" t="24484" r="21619" b="0"/>
          <a:stretch/>
        </p:blipFill>
        <p:spPr>
          <a:xfrm>
            <a:off x="3554280" y="3728880"/>
            <a:ext cx="3106800" cy="1667160"/>
          </a:xfrm>
          <a:prstGeom prst="rect">
            <a:avLst/>
          </a:prstGeom>
          <a:ln w="0">
            <a:noFill/>
          </a:ln>
        </p:spPr>
      </p:pic>
      <p:pic>
        <p:nvPicPr>
          <p:cNvPr id="56" name="図 7" descr=""/>
          <p:cNvPicPr/>
          <p:nvPr/>
        </p:nvPicPr>
        <p:blipFill>
          <a:blip r:embed="rId5"/>
          <a:srcRect l="0" t="0" r="0" b="3184"/>
          <a:stretch/>
        </p:blipFill>
        <p:spPr>
          <a:xfrm>
            <a:off x="0" y="2784600"/>
            <a:ext cx="6858000" cy="3603600"/>
          </a:xfrm>
          <a:prstGeom prst="rect">
            <a:avLst/>
          </a:prstGeom>
          <a:ln w="0">
            <a:noFill/>
          </a:ln>
        </p:spPr>
      </p:pic>
      <p:sp>
        <p:nvSpPr>
          <p:cNvPr id="57" name="テキスト ボックス 8"/>
          <p:cNvSpPr/>
          <p:nvPr/>
        </p:nvSpPr>
        <p:spPr>
          <a:xfrm>
            <a:off x="3371760" y="2319480"/>
            <a:ext cx="341640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HGPｺﾞｼｯｸM"/>
                <a:ea typeface="HGPｺﾞｼｯｸM"/>
              </a:rPr>
              <a:t>「人とひとと建ものの、橋渡し」では入居者様とのコミュニケーション、イベント企画などをご紹介しています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9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6T04:23:17Z</dcterms:created>
  <dc:creator>CHIBA</dc:creator>
  <dc:description/>
  <dc:language>en-US</dc:language>
  <cp:lastModifiedBy>suzuki</cp:lastModifiedBy>
  <cp:lastPrinted>2014-12-02T03:23:51Z</cp:lastPrinted>
  <dcterms:modified xsi:type="dcterms:W3CDTF">2014-12-13T09:37:59Z</dcterms:modified>
  <cp:revision>138</cp:revision>
  <dc:subject/>
  <dc:title>スライド 1</dc:title>
</cp:coreProperties>
</file>