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E8F-8B59-4AE6-8649-CD2413F0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065-7C13-48D4-9AD5-42529F1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C8E-78EE-42DC-816C-B0DA8765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A4E-60C7-4426-81A1-D2DFF72F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54E-18AD-41E2-ADB1-FBE9F92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EBC-4F5C-4C62-A991-8AA1F75B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B4C-5DBD-4665-939B-A9DD9E37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9AB-8A2E-4445-AFEE-F141DEE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DB2-F56F-43C2-B293-974DC4A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417-E75D-4009-B18B-461942E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908-4808-49C3-BBD1-154500A1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7CD-FE1A-4D51-A895-EDD954D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C273-0125-49C2-9F06-9637BF56BAD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5640" cy="918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84640" y="-181080"/>
            <a:ext cx="360036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5760" y="250920"/>
            <a:ext cx="295596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夏季限定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個包装入　大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オリゴ糖しお飴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4" name=""/>
          <p:cNvSpPr/>
          <p:nvPr/>
        </p:nvSpPr>
        <p:spPr>
          <a:xfrm>
            <a:off x="189000" y="86392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群栄化学工業株式会社 　 事業企画管理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ｔｏ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）　群馬県高崎市宿大類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ＴＥＬ：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20-41- 0586 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ＡＸ：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20-17-0539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4405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なかデトックス専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8469360"/>
            <a:ext cx="40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おなかデトックス専科ホームページ　ｈ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ttp://www.sweet-science.j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60280" y="2411280"/>
            <a:ext cx="2184480" cy="31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2916360"/>
            <a:ext cx="34448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熱中症は、夏の強い日射しの下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激しい運動や作業をする時だけでなく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身体が暑さに慣れない梅雨明けの時期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高温多湿の室内で過ごしている時にも危険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97360" y="3994200"/>
            <a:ext cx="1793880" cy="187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55840" y="745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17160" y="7796160"/>
            <a:ext cx="363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73640" y="7783560"/>
            <a:ext cx="371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3000" y="7451640"/>
            <a:ext cx="15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ｹｰ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袋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97360" y="7451640"/>
            <a:ext cx="18763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7451640"/>
            <a:ext cx="30384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372360"/>
            <a:ext cx="37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会社名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7020000"/>
            <a:ext cx="648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ご住所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33720" y="6372360"/>
            <a:ext cx="27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お電話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3280" y="7080120"/>
            <a:ext cx="36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13000" y="6732720"/>
            <a:ext cx="172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望納期：　　　　月　　　　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（注文日よ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日後から指定可能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6732720"/>
            <a:ext cx="3039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部署・ご担当者様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9000" y="7475400"/>
            <a:ext cx="30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オリゴ糖で作ったしお飴大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ｇ入り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ｇ粒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71880" y="778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4360" y="74232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84960" y="77835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43480" y="6732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5000" y="889308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ケース以上のご注文で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送料無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!!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ｹｰｽ未満の場合、送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円になりま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600" y="8964720"/>
            <a:ext cx="14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有効期限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月末日ま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1640" y="55753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原材料名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オリゴ糖･砂糖・食塩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食塩相当量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約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4mg/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565360" y="4788000"/>
            <a:ext cx="2087280" cy="1079280"/>
            <a:chOff x="2565360" y="4788000"/>
            <a:chExt cx="2087280" cy="1079280"/>
          </a:xfrm>
        </p:grpSpPr>
        <p:sp>
          <p:nvSpPr>
            <p:cNvPr id="71" name=""/>
            <p:cNvSpPr/>
            <p:nvPr/>
          </p:nvSpPr>
          <p:spPr>
            <a:xfrm>
              <a:off x="2565360" y="4788000"/>
              <a:ext cx="2087280" cy="1079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5360" y="4819320"/>
              <a:ext cx="20872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3399"/>
                  </a:solidFill>
                  <a:latin typeface="Arial"/>
                </a:rPr>
                <a:t>メーカー希望小売価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1,080</a:t>
              </a:r>
              <a:r>
                <a:rPr b="1" lang="zh-CN" sz="1000" spc="-1" strike="noStrike">
                  <a:solidFill>
                    <a:srgbClr val="003399"/>
                  </a:solidFill>
                  <a:latin typeface="Arial"/>
                </a:rPr>
                <a:t>円（税込）のとこ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648</a:t>
              </a:r>
              <a:r>
                <a:rPr b="1" lang="zh-CN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円</a:t>
              </a:r>
              <a:r>
                <a:rPr b="1" lang="en-US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/</a:t>
              </a:r>
              <a:r>
                <a:rPr b="1" lang="zh-CN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Arial"/>
                </a:rPr>
                <a:t>　　　　　　　　　（税込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492280" y="3913200"/>
            <a:ext cx="234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＊オリゴ糖しお飴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1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粒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　　対し、水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100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ｍｌの摂取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　　予防の目安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6012000"/>
            <a:ext cx="648000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ご注文承り書　</a:t>
            </a:r>
            <a:r>
              <a:rPr b="0" lang="en-US" sz="2400" spc="-1" strike="noStrike">
                <a:solidFill>
                  <a:srgbClr val="cc0000"/>
                </a:solidFill>
                <a:latin typeface="HG創英角ﾎﾟｯﾌﾟ体"/>
                <a:ea typeface="HG創英角ﾎﾟｯﾌﾟ体"/>
              </a:rPr>
              <a:t>FAX:0120-17-05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41720" y="6732720"/>
            <a:ext cx="172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お届け時間帯：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○をつけてくださ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午前中　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-14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18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-20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-21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00" y="8028000"/>
            <a:ext cx="648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お支払い方法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どちらか○をつけてください　※初回のご注文は代引きのみの支払い方法となります。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　　（　　　　）代金引換（代引手数料弊社負担）　　　　　　　（　　　　）コンビニ決済（２回目以降のご注文のみ選択可能）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1:49:18Z</dcterms:created>
  <dc:creator>k-wada</dc:creator>
  <dc:description/>
  <dc:language>en-US</dc:language>
  <cp:lastModifiedBy>ka-kobayashi</cp:lastModifiedBy>
  <dcterms:modified xsi:type="dcterms:W3CDTF">2014-07-09T04:08:23Z</dcterms:modified>
  <cp:revision>17</cp:revision>
  <dc:subject/>
  <dc:title>スライド 1</dc:title>
</cp:coreProperties>
</file>